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9C82-AC07-467E-90EC-19325CD41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AB5-A9BB-4A29-9357-56B30D93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AEF-DEF0-4771-B8C1-9CB50683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99A-78E2-4003-8979-5C61AD6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E3B-95B0-46FC-9CB7-EB6A5B7F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932-AE60-4B82-8147-A5DC2CAD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1FF-840A-4ABA-9A3D-1B62ED5C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8297-7A2A-41DC-BC67-60E401A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11ED-90EE-4AD5-81B9-88E8BBD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108-4C16-4E99-B0FD-23B52841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EC47-EF77-48F0-BE87-FF22559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0FD9-B654-4F13-A35C-02A9F67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4A3-B427-4C52-84A8-F258532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E78-AFBF-4AEA-8447-DE93E9D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8E5C-DFCB-4AC8-B8DC-628F1BF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C53C-5A10-4C48-B92E-BF83EB2D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D0A0-42D6-41C3-B104-5DB3CFD9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D88A-1A80-4A80-8354-FDC1C782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08-DE27-429A-ACA8-675E9B7E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957-BB4F-4A6C-99BC-20522628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8F8-3016-4A68-A877-AA1E8F9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78A-479D-4A1E-A97C-530A2D2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E57-CB3E-4C1C-A6D5-80274CD4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569-3CEE-4A44-B878-691FA4C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98C-ED2A-46B9-80DC-BEF1015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A42A-B0BC-4D9D-96D3-5135416E74B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4CB-EACD-499D-8AC0-8C4700A993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19360" y="24541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ow is this a generative model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From lecture 2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stimate P(X) someho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alculate P(X,Y) using the training data (the set of pixels in our image) using P(X,Y) = P(Y|X). P(X) from the graphical mo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P(Y|X)  is the previous slide – we didn’t say how we learned i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alculate P(X|Y) using Bayes Rule. This would assign each pixel to a class based on its grey level (classifier mod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o use generatively, use P(X) and sample P(X,Y) although this would produce a set of pixels without any spatial structure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 analysis as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640" y="2417760"/>
            <a:ext cx="79534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fact, this example of a mixture model where the underlying variable X is continuous (e.g. a Gaussian or normal distribution) is actually </a:t>
            </a:r>
            <a:r>
              <a:rPr b="1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factor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19320" y="4648320"/>
            <a:ext cx="7026120" cy="1717560"/>
            <a:chOff x="1219320" y="4648320"/>
            <a:chExt cx="7026120" cy="171756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235160" y="4648320"/>
                  <a:ext cx="38098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235160" y="5181840"/>
                  <a:ext cx="70102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Wx</m:t>
                      </m:r>
                      <m:r>
                        <m:t xml:space="preserve">,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219320" y="5697720"/>
                  <a:ext cx="434340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ℜ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ℜ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 analysis as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36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2438280"/>
            <a:ext cx="8915400" cy="2898000"/>
            <a:chOff x="228600" y="2438280"/>
            <a:chExt cx="8915400" cy="2898000"/>
          </a:xfrm>
        </p:grpSpPr>
        <p:grpSp>
          <p:nvGrpSpPr>
            <p:cNvPr id="159" name=""/>
            <p:cNvGrpSpPr/>
            <p:nvPr/>
          </p:nvGrpSpPr>
          <p:grpSpPr>
            <a:xfrm>
              <a:off x="4862520" y="2438280"/>
              <a:ext cx="4281480" cy="2898000"/>
              <a:chOff x="4862520" y="2438280"/>
              <a:chExt cx="4281480" cy="289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5321520" y="2438280"/>
                <a:ext cx="0" cy="2438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21520" y="4876560"/>
                <a:ext cx="3581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50320" y="3047760"/>
                <a:ext cx="1993680" cy="162576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64520" y="3276360"/>
                <a:ext cx="1993680" cy="139716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78720" y="2895480"/>
                <a:ext cx="1993680" cy="177804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97480" y="3047760"/>
                <a:ext cx="1155960" cy="167652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21520" y="3962160"/>
                <a:ext cx="622080" cy="83808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99480" y="487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31160" y="484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31200" y="48765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255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00000">
                <a:off x="4640760" y="3055680"/>
                <a:ext cx="90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p(y|x)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8600" y="2438280"/>
              <a:ext cx="4892400" cy="2898000"/>
              <a:chOff x="228600" y="2438280"/>
              <a:chExt cx="4892400" cy="289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373040" y="2438280"/>
                <a:ext cx="0" cy="2438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73040" y="4876560"/>
                <a:ext cx="3581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3124080"/>
                <a:ext cx="1994040" cy="162540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83040" y="484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83080" y="48765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255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66880" y="3124080"/>
                <a:ext cx="1994040" cy="162540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1916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304776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4044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930240" y="5354640"/>
            <a:ext cx="79534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or analysis represents a high-dimensional vector Y as a linear combination of low dimensional features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 space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24177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te space models “roll out” their structure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graphical model shows which variable sets dictate how the model parameters will change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Kalman Filter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upled 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5105520"/>
                <a:ext cx="6453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1371600" y="2576520"/>
            <a:ext cx="6477120" cy="2376360"/>
            <a:chOff x="1371600" y="2576520"/>
            <a:chExt cx="6477120" cy="2376360"/>
          </a:xfrm>
        </p:grpSpPr>
        <p:sp>
          <p:nvSpPr>
            <p:cNvPr id="187" name=""/>
            <p:cNvSpPr/>
            <p:nvPr/>
          </p:nvSpPr>
          <p:spPr>
            <a:xfrm>
              <a:off x="137160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39625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008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30481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30481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3048120"/>
              <a:ext cx="7621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25765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3160" y="274968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0040" y="269064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273528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37280" y="2719440"/>
              <a:ext cx="621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51814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BNs have more than one (here up to N) underlying models X of behaviour and can switch from model to model with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11120" y="2592360"/>
            <a:ext cx="6477120" cy="2376360"/>
            <a:chOff x="1311120" y="2592360"/>
            <a:chExt cx="6477120" cy="2376360"/>
          </a:xfrm>
        </p:grpSpPr>
        <p:sp>
          <p:nvSpPr>
            <p:cNvPr id="209" name=""/>
            <p:cNvSpPr/>
            <p:nvPr/>
          </p:nvSpPr>
          <p:spPr>
            <a:xfrm>
              <a:off x="131112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4464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3960" y="397836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9712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644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996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1840" y="3063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54320" y="3063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7160" y="3063960"/>
              <a:ext cx="7617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752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3104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744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0040" y="25923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276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9752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88240" y="278136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70960" y="270684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07600" y="275112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15960" y="2751120"/>
              <a:ext cx="801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witching Kalman Filter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65760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SITION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24640" y="462132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55920" y="2666880"/>
            <a:ext cx="2939760" cy="2528640"/>
            <a:chOff x="1555920" y="2666880"/>
            <a:chExt cx="2939760" cy="2528640"/>
          </a:xfrm>
        </p:grpSpPr>
        <p:grpSp>
          <p:nvGrpSpPr>
            <p:cNvPr id="232" name=""/>
            <p:cNvGrpSpPr/>
            <p:nvPr/>
          </p:nvGrpSpPr>
          <p:grpSpPr>
            <a:xfrm>
              <a:off x="1828800" y="2666880"/>
              <a:ext cx="2666880" cy="2528640"/>
              <a:chOff x="1828800" y="2666880"/>
              <a:chExt cx="2666880" cy="2528640"/>
            </a:xfrm>
          </p:grpSpPr>
          <p:sp>
            <p:nvSpPr>
              <p:cNvPr id="233" name=""/>
              <p:cNvSpPr/>
              <p:nvPr/>
            </p:nvSpPr>
            <p:spPr>
              <a:xfrm>
                <a:off x="2514600" y="3900240"/>
                <a:ext cx="304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05320" y="3900240"/>
                <a:ext cx="304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828800" y="2666880"/>
                <a:ext cx="2666880" cy="2528640"/>
                <a:chOff x="1828800" y="2666880"/>
                <a:chExt cx="2666880" cy="2528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82880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0988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1952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1828800" y="2666880"/>
                  <a:ext cx="2666880" cy="2528640"/>
                  <a:chOff x="1828800" y="2666880"/>
                  <a:chExt cx="2666880" cy="25286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20968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19112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20040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1828800" y="2666880"/>
                    <a:ext cx="2666880" cy="2528640"/>
                    <a:chOff x="1828800" y="2666880"/>
                    <a:chExt cx="2666880" cy="25286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82880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80988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81952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20968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20040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19112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933640" y="363672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938400" y="362232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1928880" y="362088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1973880" y="462564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1874880" y="2666880"/>
                      <a:ext cx="609480" cy="53316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895480" y="2666880"/>
                      <a:ext cx="609840" cy="53316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3857760" y="2669760"/>
                      <a:ext cx="609480" cy="53352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1974240" y="2690640"/>
                      <a:ext cx="49932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58" name=""/>
            <p:cNvSpPr/>
            <p:nvPr/>
          </p:nvSpPr>
          <p:spPr>
            <a:xfrm>
              <a:off x="1555920" y="3048120"/>
              <a:ext cx="306360" cy="167616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2360" y="3033720"/>
              <a:ext cx="306360" cy="167652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22600" y="3048120"/>
              <a:ext cx="306360" cy="167616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20600" y="5425920"/>
                <a:ext cx="7740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20600" y="5927760"/>
                <a:ext cx="7229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pled 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447920" y="2819520"/>
            <a:ext cx="2819160" cy="3400200"/>
            <a:chOff x="1447920" y="2819520"/>
            <a:chExt cx="2819160" cy="3400200"/>
          </a:xfrm>
        </p:grpSpPr>
        <p:grpSp>
          <p:nvGrpSpPr>
            <p:cNvPr id="265" name=""/>
            <p:cNvGrpSpPr/>
            <p:nvPr/>
          </p:nvGrpSpPr>
          <p:grpSpPr>
            <a:xfrm>
              <a:off x="1447920" y="2819520"/>
              <a:ext cx="685800" cy="3400200"/>
              <a:chOff x="1447920" y="2819520"/>
              <a:chExt cx="685800" cy="3400200"/>
            </a:xfrm>
          </p:grpSpPr>
          <p:sp>
            <p:nvSpPr>
              <p:cNvPr id="266" name=""/>
              <p:cNvSpPr/>
              <p:nvPr/>
            </p:nvSpPr>
            <p:spPr>
              <a:xfrm>
                <a:off x="144792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792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9400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9400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9892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79892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892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514600" y="2819520"/>
              <a:ext cx="685800" cy="3400200"/>
              <a:chOff x="2514600" y="2819520"/>
              <a:chExt cx="685800" cy="3400200"/>
            </a:xfrm>
          </p:grpSpPr>
          <p:sp>
            <p:nvSpPr>
              <p:cNvPr id="274" name=""/>
              <p:cNvSpPr/>
              <p:nvPr/>
            </p:nvSpPr>
            <p:spPr>
              <a:xfrm>
                <a:off x="251460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460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6068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86560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6560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560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3581280" y="2819520"/>
              <a:ext cx="685800" cy="3400200"/>
              <a:chOff x="3581280" y="2819520"/>
              <a:chExt cx="685800" cy="3400200"/>
            </a:xfrm>
          </p:grpSpPr>
          <p:sp>
            <p:nvSpPr>
              <p:cNvPr id="282" name=""/>
              <p:cNvSpPr/>
              <p:nvPr/>
            </p:nvSpPr>
            <p:spPr>
              <a:xfrm>
                <a:off x="358128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8128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736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2736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93228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3228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3228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133720" y="40384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40384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33720" y="49528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49528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372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3372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84560" y="428148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446480" y="236232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92560" y="630864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8840" y="6045120"/>
            <a:ext cx="320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liver, Rosario &amp; Pentland, 1999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pled 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64832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9400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79856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548640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068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86560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464832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27360" y="378000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93228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40384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40384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548640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1808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2300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4038480"/>
            <a:ext cx="3812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952880"/>
            <a:ext cx="1447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18148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518148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432900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00600" y="432756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6360" y="432720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05320" y="432864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9640" y="24382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03680" y="624852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3443400"/>
            <a:ext cx="3809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a coupled model, the timescales associated with each underlying hidden model do not need to be the s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ful for coupling multi-modal signals such as audio and vide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251460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ing the value of hidden nodes given the values of the observed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ing statistical and information theoretic quantities like fit between model and observed data (likelihood), mutual information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ct and approximate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family of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see some example mode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ture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tor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pled 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 an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53920" y="2255760"/>
            <a:ext cx="80773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parameters and/or structure from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ximise fit between model and observe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d model structure - discover best parameter 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structure using information criteria (“scoring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71600" y="4648320"/>
          <a:ext cx="7086600" cy="20145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servabili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osed for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al sear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al 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raphical models can be seen a family of models that allow different vision problems to be solv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example, a mixture model is a directed Bayes net which could be used to classify pix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te space models, for example the HMM, show how variable sets determine model parameters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 Rule and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graphical models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cosco.hiit.fi/Teaching/GraphicalModels/Fall2003/material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are graphical model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cisely because they allows us to see different methods as instances of a broader probabilistic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put our model of expectation on a solid theoretical foun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 from previous lectur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stic graphical model is a type of probabilistic network that has roots in AI, statistics and neural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clean mathematical formalism that makes it possible to understand the relationships between a wide variety of network based approaches to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see different methods as instances of a broader probabilistic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xonomy of graphical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GMtree" descr=""/>
          <p:cNvPicPr/>
          <p:nvPr/>
        </p:nvPicPr>
        <p:blipFill>
          <a:blip r:embed="rId1"/>
          <a:stretch/>
        </p:blipFill>
        <p:spPr>
          <a:xfrm>
            <a:off x="1020600" y="2346480"/>
            <a:ext cx="6934320" cy="44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1800" y="243828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© Julie Vog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ation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quares denote discrete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ircles denote continuous valued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ear denotes hidden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aded denotes observed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2666880"/>
            <a:ext cx="990720" cy="3505320"/>
            <a:chOff x="1828800" y="2666880"/>
            <a:chExt cx="990720" cy="3505320"/>
          </a:xfrm>
        </p:grpSpPr>
        <p:sp>
          <p:nvSpPr>
            <p:cNvPr id="114" name=""/>
            <p:cNvSpPr/>
            <p:nvPr/>
          </p:nvSpPr>
          <p:spPr>
            <a:xfrm>
              <a:off x="1828800" y="388620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2666880"/>
              <a:ext cx="990720" cy="91440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5181480"/>
              <a:ext cx="99072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2722320"/>
            <a:ext cx="589572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ta point drawn from a fixed set of class in Y, but the class label for each data point is ‘missing’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 = class label x (hidden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Y = observed data poi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(X=x,Y=y) = P(X=x).P(Y=y|X=x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earning problem is to find P(Y|X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ference problem is P(X=x|Y=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et’s try to put this in a vision context 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3063960"/>
            <a:ext cx="1071720" cy="2422440"/>
            <a:chOff x="1371600" y="3063960"/>
            <a:chExt cx="1071720" cy="2422440"/>
          </a:xfrm>
        </p:grpSpPr>
        <p:sp>
          <p:nvSpPr>
            <p:cNvPr id="120" name=""/>
            <p:cNvSpPr/>
            <p:nvPr/>
          </p:nvSpPr>
          <p:spPr>
            <a:xfrm>
              <a:off x="1371600" y="4495680"/>
              <a:ext cx="99072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403848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6280" y="3063960"/>
              <a:ext cx="1067040" cy="99036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1240" y="3263760"/>
              <a:ext cx="468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9360" y="251424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’s say our class label X has 4 possible values (wall,bush,sign, ro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pixel in the image has a grey level 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don’t know which class each pixel belongs 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(X=x,Y=y) =  P(X=x).P(Y=y|X=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ing problem is to find P(Y|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rence problem is P(X=x|Y=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ven’t said how to learn P(Y|X) y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19360" y="25909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might have a spec for P(Y|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17920" y="3505320"/>
            <a:ext cx="4281480" cy="2898000"/>
            <a:chOff x="4417920" y="3505320"/>
            <a:chExt cx="4281480" cy="2898000"/>
          </a:xfrm>
        </p:grpSpPr>
        <p:sp>
          <p:nvSpPr>
            <p:cNvPr id="131" name=""/>
            <p:cNvSpPr/>
            <p:nvPr/>
          </p:nvSpPr>
          <p:spPr>
            <a:xfrm>
              <a:off x="4876920" y="3505320"/>
              <a:ext cx="0" cy="2438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5943600"/>
              <a:ext cx="3581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4114800"/>
              <a:ext cx="1993680" cy="162576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4343400"/>
              <a:ext cx="1993680" cy="139716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3962520"/>
              <a:ext cx="1993680" cy="177804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4114800"/>
              <a:ext cx="1155960" cy="167652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920" y="5029200"/>
              <a:ext cx="622080" cy="83808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4880" y="594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656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6600" y="5943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4196160" y="412272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(y|x)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16200000">
            <a:off x="7439400" y="357984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=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808880" y="4536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=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156280" y="353664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=bus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6043320" y="3407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x=r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726600" y="38340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x=w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32:29Z</dcterms:modified>
  <cp:revision>74</cp:revision>
  <dc:subject/>
  <dc:title>Programming Techniques 804G5</dc:title>
</cp:coreProperties>
</file>